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D5BE7-BC17-4ED3-B0C7-28881AD9B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D78FE-53CC-4476-928D-EE4950A6D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8F472-BD0D-4796-B426-F1B556DD5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3B90C-CA47-4994-BF82-12B438602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CF8BEB-FFCB-4F1F-87DF-42708ED17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6C3E6-A255-4053-8C2C-BCBEF462B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30407-D4A0-45C4-83EB-22255F263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EDD3F-7994-4331-9B57-080375B08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121D0-F426-4DAC-99E5-64B1D628A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EEFFB-E1B9-4CA3-8530-A9DC30156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FF640-F12A-48FF-8870-665812E64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9AFCB-8098-4A7F-95A9-2029E0B25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CAEAD-769F-4CBB-B321-C35B3E6C7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1FC68-5A8C-4B2B-81D2-E50AB5B5C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503D3-2340-48F6-B5DD-9D034E0B2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ED84A3-CC3B-4DA4-A2FF-8CD03112DF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8F954C-4C85-4826-84FE-EEE8216DF7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0AD68-D76E-4CE7-BD22-6F4262C6F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B17EC-5911-4D2A-B912-111A0B3BB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14139-C732-4A7D-9803-0972EC131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92411-98B9-439F-BA35-A14B4DA92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76EE7-9A79-47DE-A94A-C7E07859D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42489-21BD-4CB6-9E1F-B144ED7EB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72582-751B-483B-BE2E-3FB8C0BFB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D1E4A-34E5-4218-A660-D0C8E9746F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1897-D392-4A29-B870-F81A4E5B36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ultiple Intelligences</a:t>
            </a:r>
            <a:endParaRPr b="0" lang="en-US" sz="3800" spc="-1" strike="noStrike">
              <a:solidFill>
                <a:srgbClr val="000000"/>
              </a:solidFill>
              <a:latin typeface="Arial"/>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rd Gardner (Seven)  Plus One</a:t>
            </a:r>
            <a:endParaRPr b="0" lang="en-US" sz="32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tend the definition of intelligence</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telligence has to do with solving problems and fashioning products in a context–rich and natural setting</a:t>
            </a:r>
            <a:endParaRPr b="0" lang="en-US" sz="23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telligence:  “The ability to solve a problem or create a product that is valued in at least one culture or communit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dily/Kinesthetic</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Bodily-Kinesthetic Intelligence:</a:t>
            </a:r>
            <a:r>
              <a:rPr b="0" lang="en-US" sz="2700" spc="-1" strike="noStrike">
                <a:solidFill>
                  <a:srgbClr val="000000"/>
                </a:solidFill>
                <a:latin typeface="Arial"/>
              </a:rPr>
              <a:t> The ability to use one's whole body to express ideas and feelings (e.g., as an actor, an athlete, or a dancer) and the facility to use one's hands to produce or transform things (e.g., as a craftsperson, mechanic, or surgeon). This intelligence includes skills, such as coordination, balance, dexterity, strength, flexibility, and speed. </a:t>
            </a:r>
            <a:endParaRPr b="0" lang="en-US" sz="27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dily-Kinesthetic</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eo of play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ers theatr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playing</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es designed by student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whole-body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erpersonal</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nterpersonal Intelligence:</a:t>
            </a:r>
            <a:r>
              <a:rPr b="0" lang="en-US" sz="2700" spc="-1" strike="noStrike">
                <a:solidFill>
                  <a:srgbClr val="000000"/>
                </a:solidFill>
                <a:latin typeface="Arial"/>
              </a:rPr>
              <a:t> The ability to perceive the moods, intentions, motivations, and feelings of other people. This can include sensitivity to many different kinds of interpersonal cues; and the ability to respond to those cues in some useful way (e.g., to influence a group of people).</a:t>
            </a:r>
            <a:endParaRPr b="0" lang="en-US" sz="27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erpersonal</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s or videos of students working in cooperative learning group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ing of group discuss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s that show student’s “Group Smar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Rep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rapersonal</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ntrapersonal Intelligence:</a:t>
            </a:r>
            <a:r>
              <a:rPr b="0" lang="en-US" sz="2700" spc="-1" strike="noStrike">
                <a:solidFill>
                  <a:srgbClr val="000000"/>
                </a:solidFill>
                <a:latin typeface="Arial"/>
              </a:rPr>
              <a:t> Self-knowledge and the ability to act on the basis of that knowledge. This intelligence includes having an accurate picture of one's strengths and limitations and the capacity for self-discipline, self-understanding, and self-esteem. </a:t>
            </a: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rapersonal</a:t>
            </a: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dence of self-reflection and self-knowledg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urnal entri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ry drawing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naires on attitudes toward a particular assignment or content ar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aturalist + One</a:t>
            </a:r>
            <a:endParaRPr b="0" lang="en-US" sz="3800" spc="-1" strike="noStrike">
              <a:solidFill>
                <a:srgbClr val="000000"/>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learn best when all that is to be learned is connected to nature, the real world, and their cultural contex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aturalist</a:t>
            </a:r>
            <a:endParaRPr b="0" lang="en-US" sz="3800" spc="-1" strike="noStrike">
              <a:solidFill>
                <a:srgbClr val="000000"/>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s journal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ication system</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rapbook</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ssignments which connect the concept/skill to be learned to nature, the real world, and their cultural con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nguistic:  </a:t>
            </a:r>
            <a:endParaRPr b="0" lang="en-US" sz="3800" spc="-1" strike="noStrike">
              <a:solidFill>
                <a:srgbClr val="000000"/>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Linguistic Intelligence:</a:t>
            </a:r>
            <a:r>
              <a:rPr b="0" lang="en-US" sz="2700" spc="-1" strike="noStrike">
                <a:solidFill>
                  <a:srgbClr val="000000"/>
                </a:solidFill>
                <a:latin typeface="Arial"/>
              </a:rPr>
              <a:t> The capacity to use words effectively, whether orally (e.g., as a storyteller) or in writing (e.g., as a poet or journalist). This intelligence includes the ability to use language to convince others, to remember information and to explain ideas and understandings. </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nguistic</a:t>
            </a:r>
            <a:endParaRPr b="0" lang="en-US" sz="3800" spc="-1" strike="noStrike">
              <a:solidFill>
                <a:srgbClr val="000000"/>
              </a:solidFill>
              <a:latin typeface="Arial"/>
            </a:endParaRPr>
          </a:p>
        </p:txBody>
      </p:sp>
      <p:sp>
        <p:nvSpPr>
          <p:cNvPr id="9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description of investigatio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urnal entri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 cassette recording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ter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ay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logs</a:t>
            </a:r>
            <a:endParaRPr b="0" lang="en-US" sz="2800" spc="-1" strike="noStrike">
              <a:solidFill>
                <a:srgbClr val="000000"/>
              </a:solidFill>
              <a:latin typeface="Arial"/>
            </a:endParaRPr>
          </a:p>
        </p:txBody>
      </p:sp>
      <p:sp>
        <p:nvSpPr>
          <p:cNvPr id="10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domains of writing</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ecdotal record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of oral language presentatio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profi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ogical/Mathematical</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Logical-Mathematical Intelligence:</a:t>
            </a:r>
            <a:r>
              <a:rPr b="0" lang="en-US" sz="2700" spc="-1" strike="noStrike">
                <a:solidFill>
                  <a:srgbClr val="000000"/>
                </a:solidFill>
                <a:latin typeface="Arial"/>
              </a:rPr>
              <a:t> The capacity to use numbers effectively (e.g., as a mathematician or accountant) and to reason well (e.g., as a scientist or computer programmer). Logical-mathematical intelligence is called upon for activities involving categorization, classification, inference, generalization, calculation, and hypothesis testing. </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ogical-Mathematical</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 representatio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rams of problem solving proces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list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 tests—variety of formats</a:t>
            </a:r>
            <a:endParaRPr b="0" lang="en-US" sz="2800" spc="-1" strike="noStrike">
              <a:solidFill>
                <a:srgbClr val="000000"/>
              </a:solidFill>
              <a:latin typeface="Arial"/>
            </a:endParaRPr>
          </a:p>
        </p:txBody>
      </p:sp>
      <p:sp>
        <p:nvSpPr>
          <p:cNvPr id="105"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heet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s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 checklist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olv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patial</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patial Intelligence:</a:t>
            </a:r>
            <a:r>
              <a:rPr b="0" lang="en-US" sz="2700" spc="-1" strike="noStrike">
                <a:solidFill>
                  <a:srgbClr val="000000"/>
                </a:solidFill>
                <a:latin typeface="Arial"/>
              </a:rPr>
              <a:t> The ability to perceive the visual-spatial world accurately (e.g., having a strong sense of location and direction) and to perform transformations upon those perceptions (e.g., as an interior decorator, architect, or artist). It includes the capacity to visualize and to graphically represent visual or spatial ideas. </a:t>
            </a: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patial</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 Organizer</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zzl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 card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and all artistic represent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earning Quilt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ization Drawing</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s/Slide show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usical</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usical Intelligence:</a:t>
            </a:r>
            <a:r>
              <a:rPr b="0" lang="en-US" sz="2700" spc="-1" strike="noStrike">
                <a:solidFill>
                  <a:srgbClr val="000000"/>
                </a:solidFill>
                <a:latin typeface="Arial"/>
              </a:rPr>
              <a:t> The capacity to perceive, discriminate, transform (e.g., as a composer), and express (e.g., as a performer) musical forms. This intelligence includes sensitivity to the rhythm, melody, and timbre of a musical piece. One can have an intuitive understanding of music, a formal understanding, or both. </a:t>
            </a: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usical</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gs, raps, jingles, chants (student written and performe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em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erick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dd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7T20:34:49Z</dcterms:created>
  <dc:creator>MLMS LCSD</dc:creator>
  <dc:description/>
  <dc:language>en-US</dc:language>
  <cp:lastModifiedBy>MLMS</cp:lastModifiedBy>
  <dcterms:modified xsi:type="dcterms:W3CDTF">2003-06-20T16:25:56Z</dcterms:modified>
  <cp:revision>9</cp:revision>
  <dc:subject/>
  <dc:title>Lesson Plan</dc:title>
</cp:coreProperties>
</file>